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433-3FE2-4456-8618-A79EA8BD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6FA-BC1D-4DC4-8017-8F495A95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D64-485E-4847-84D4-87074B00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623-9E5D-4F64-92FD-77403063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752-B501-438A-BA51-A5A28053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F35-B4D6-4ED2-88B2-198DF04A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D07-92C7-4D0B-8452-9EC6BEFA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75B-B6DC-4B8E-8815-EEE4CF13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E70-83F0-4737-BAD5-31A874FE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EDD-2227-41C4-87AA-5B5C58A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0B6-862A-4B23-9A01-C17D431B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41B-78D0-45AF-BB1E-D9B3A54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2D0D-3BFA-43C1-8AEA-774642C9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 Tectonic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fred Wegener could not explain what caused the continents to move.  It is now believed that   _____ currents inside Earth cause plates to mov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s or stripes of basaltic rock on the seafloor showing alternating magnetic orientation indicate Earth's magnetic field has _____ in the p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studying the ocean floor, scientists found _____  of magnet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get farther from a mid-ocean ridge, sea floor rocks become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Animation of divergent plate motion."/>
          <p:cNvPicPr/>
          <p:nvPr/>
        </p:nvPicPr>
        <p:blipFill>
          <a:blip r:embed="rId1"/>
          <a:stretch/>
        </p:blipFill>
        <p:spPr>
          <a:xfrm>
            <a:off x="1066680" y="152280"/>
            <a:ext cx="1905120" cy="89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nimation of convergent plate motion."/>
          <p:cNvPicPr/>
          <p:nvPr/>
        </p:nvPicPr>
        <p:blipFill>
          <a:blip r:embed="rId2"/>
          <a:stretch/>
        </p:blipFill>
        <p:spPr>
          <a:xfrm>
            <a:off x="6172200" y="304920"/>
            <a:ext cx="2057400" cy="96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62920" y="2666880"/>
            <a:ext cx="18288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ocean 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86600" y="152280"/>
            <a:ext cx="16765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 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ttp://www.lowellphysics.org/beta/resources/CH32/S6/c32x32_6.xform_files/nw0739-n.gif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533520"/>
            <a:ext cx="4495680" cy="239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610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figure above) As you get farther from a mid-ocean ridge, sea floor rocks become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fred Wegner noticed that the _____, rocks, and mountains matched up across con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-_____  _______ are a continuous chain of volcanoes that extends through many of the earth’s oceans where new crust of the Earth i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theories that lead up to plate tectonics are ______ drift and ______ sp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Earth’s magnetic field protects us from the ____ 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en magma cools at mid-ocean ridges, a mineral called magnetite ______ itself with the earth’s magnetic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arry Hess noticed ______ on the sea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ach magnetic ________on the seafloor showed a _______in the earth’s magnetic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hese magnetic stripes were strong evidence for seafloor ________ and plate tectonic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93356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107784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2920" y="3048120"/>
            <a:ext cx="1676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e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5029200"/>
            <a:ext cx="3048120" cy="1673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632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 Africa and Mid-ocean ridges are two examples of a _______ plate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_______ zone is the area where the plate sinks back into earth melting as it desc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wo types of crust are ________ and _______ cr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sland arc like Japan formed by a collision of ocean crust colliding with _____ crust at a convergent plate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malayan Mountains formed from the collision of continental crust colliding with _________ cr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    Dr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Labe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029200"/>
            <a:ext cx="32004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5029200"/>
            <a:ext cx="3352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943600" y="5257800"/>
            <a:ext cx="3048120" cy="144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91520" y="5257800"/>
            <a:ext cx="30456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5334120"/>
            <a:ext cx="228600" cy="75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5029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63244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640080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duction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743200"/>
            <a:ext cx="2362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ent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use tw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use tw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5720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ft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48769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286000" y="4232160"/>
          <a:ext cx="4267080" cy="2625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32160"/>
                    <a:ext cx="426708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_______ is located at location A where plates collide and ocean plate sub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New rock or plate is created at ______ boundaries and plate is destroyed at  _________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t location B, ocean plate is _____ as it subducts and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The subduction of oceanic plate beneath continental plate produ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____  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5257800"/>
            <a:ext cx="30456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5334120"/>
            <a:ext cx="228600" cy="75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1371600"/>
            <a:ext cx="22860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lcanic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ve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e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23:31Z</dcterms:created>
  <dc:creator>jfuller</dc:creator>
  <dc:description/>
  <dc:language>en-US</dc:language>
  <cp:lastModifiedBy>jfuller</cp:lastModifiedBy>
  <dcterms:modified xsi:type="dcterms:W3CDTF">2011-10-03T15:23:34Z</dcterms:modified>
  <cp:revision>1</cp:revision>
  <dc:subject/>
  <dc:title>Plate Tectonic Makeup Bellwork</dc:title>
</cp:coreProperties>
</file>